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camera.wav" ContentType="audio/x-wav"/>
  <Override PartName="/ppt/media/image5.jpeg" ContentType="image/jpeg"/>
  <Override PartName="/ppt/media/image6.wmf" ContentType="image/x-wmf"/>
  <Override PartName="/ppt/media/whoosh.wav" ContentType="audio/x-wav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DD7-AD33-478F-B9C8-8AAD046F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E5A-B7BD-4200-8E5F-48AB7CBA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9CC-4660-4C7D-82C4-C0CE400B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88D-272A-44A2-B89B-1EDE3E9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83F-FA1A-4A21-A53C-34C407D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9AA-DFE0-4DAD-B4B7-867304E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075-5B04-4129-9554-8DAA205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75B-9C6A-441C-BDFF-6415672F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130-8CE8-4789-8F1C-8D0DD1CE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B79-F4D3-4EBA-9B50-F9073DB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FBF-DCCB-4DAB-B860-BC198EA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94E-B767-42EE-B444-3A37A3E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3E18-B8A3-4A32-B5C6-4264B122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1523880"/>
            <a:ext cx="695340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Forming plural form of a noun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6" descr="PE03254_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257800" y="3686040"/>
            <a:ext cx="2473200" cy="223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295280" y="10666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plural of a noun is usually made by adding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‘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he singul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66680" y="32004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666880" y="32004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267080" y="3276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14600" y="5105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266688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  <a:ea typeface="標楷體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419720" y="4038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2438280" y="5105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k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4457880" y="5029200"/>
            <a:ext cx="13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k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248520" y="4572000"/>
            <a:ext cx="2514600" cy="176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  <p:seq>
              <p:cTn id="6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90720" y="53352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o’, ‘ch’, ‘sh’, ‘s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x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4300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362320" y="2514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495680" y="2514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623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4956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chu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3581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4956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ru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51460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k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572000" y="4114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ki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514600" y="4572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0" y="4572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NA00864_"/>
          <p:cNvPicPr/>
          <p:nvPr/>
        </p:nvPicPr>
        <p:blipFill>
          <a:blip r:embed="rId2"/>
          <a:stretch/>
        </p:blipFill>
        <p:spPr>
          <a:xfrm>
            <a:off x="6248520" y="4363920"/>
            <a:ext cx="2493720" cy="2152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71600" y="3049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llowing a 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consonant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dropping the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nd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i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95280" y="3733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90920" y="3733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400800" y="3733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a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5146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257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jackal"/>
          <p:cNvPicPr/>
          <p:nvPr/>
        </p:nvPicPr>
        <p:blipFill>
          <a:blip r:embed="rId2"/>
          <a:stretch/>
        </p:blipFill>
        <p:spPr>
          <a:xfrm>
            <a:off x="4038480" y="3200400"/>
            <a:ext cx="2167200" cy="150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9144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llowing a 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vowel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743200" y="3124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48320" y="3124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90920" y="403848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286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don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419720" y="4038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don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NA01441_"/>
          <p:cNvPicPr/>
          <p:nvPr/>
        </p:nvPicPr>
        <p:blipFill>
          <a:blip r:embed="rId2"/>
          <a:stretch/>
        </p:blipFill>
        <p:spPr>
          <a:xfrm>
            <a:off x="6934320" y="4343400"/>
            <a:ext cx="1493640" cy="16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38080" y="76212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e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usually form their plural by dropping the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e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nd add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v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07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6232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1972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w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62320" y="4648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w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41972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w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BD06662_"/>
          <p:cNvPicPr/>
          <p:nvPr/>
        </p:nvPicPr>
        <p:blipFill>
          <a:blip r:embed="rId2"/>
          <a:stretch/>
        </p:blipFill>
        <p:spPr>
          <a:xfrm>
            <a:off x="6858000" y="46483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1:37:11Z</dcterms:created>
  <dc:creator>ASUS OEM</dc:creator>
  <dc:description/>
  <dc:language>en-US</dc:language>
  <cp:lastModifiedBy>teacher</cp:lastModifiedBy>
  <dcterms:modified xsi:type="dcterms:W3CDTF">2010-10-08T17:47:56Z</dcterms:modified>
  <cp:revision>30</cp:revision>
  <dc:subject/>
  <dc:title>PowerPoint 簡報</dc:title>
</cp:coreProperties>
</file>